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CD6-2D93-4F64-B48F-9396AC48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0EB-0005-4BE5-ACC5-E325B78E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329-3A38-4A45-BA57-673654A9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46C-CB13-4257-895D-6C52C6F4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4E06-0F49-4248-847E-E0F30685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34D3-7C72-4F44-B9FF-BC5B3E9D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1A5-6683-4CC2-BADF-9516342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0302-5E42-46DB-B5CF-5F200AD7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2CB8-3C25-4DFE-AE94-453DE902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1DB6-F20B-4A54-8287-2A4A45CE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AF50-8897-4DD3-94FA-D4BB4C4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C1A-9989-4100-97C7-5E00CF20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8F58-B75B-4661-B967-FBC7600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BFEF-8699-4D67-B0BB-AB63168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F649-0482-4929-9F25-427CDCE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1AF1-1805-47B3-BB36-2AC6E26C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32E6-620E-4815-97DA-788D22BA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1BD4-8361-45DF-8610-96DD0D1B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F6F2-E805-487B-8BB8-D59E660F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D218-C302-4220-B1A8-5ED20208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1A81-85BF-4B14-9509-089FE0E0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62B2-9962-413F-86F9-8E6CE709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D44-A0B7-43B1-A408-A29AA21F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83C92-1876-49EC-A569-D157C743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8BB8-93C8-4C83-B431-47CA166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022E-2FB5-407C-9627-A910856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DE48-5450-438C-93BE-3F2CE19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1A27-CD55-4A0B-AE70-1F4570BB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6115-4C67-446D-9EB2-D8778F44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5A9A-039D-42FD-AC2A-D8F0BB25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31753-152F-4802-94D5-8F0FD666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D7E1-E584-469F-B9BE-6466A33F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C7B69-97C0-4E33-8CCF-1D19B0E4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755-532C-4D06-BE69-24E3794E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6A77B-BCDE-4347-9007-5E5DEAA6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DECA-88F6-4752-A724-B68F1F9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0C3E-1B63-40B6-94D8-EA4B5E07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8E97-439F-4B72-AC36-D1BD328C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702B-65A1-49FD-9598-D5C00F29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F638-BD0E-44DF-B6E3-6FD40D9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0ED8-FCC5-4F92-AD1C-0CA1679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7A36-2115-4C96-9C5E-8DBEF1C7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671A-2F77-4A08-B251-DCF1BCA0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0C61-D04F-464A-BF15-82EEA6EC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834-D8B8-49D9-B31F-0EA79ACB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5CD5-F2DD-40C8-A233-6CBE8C23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CA60F-FF9D-4AC6-A7F7-2034B7E8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24E3-E3FB-49F8-AC69-AA070E07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0F945-9798-417A-9058-159429A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B849C-E36B-4D24-83CA-7E24CF22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AA79F-3E0D-4232-8915-FBD7C49A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C9A5-B635-4CA1-B442-3278D08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9AA94-F871-45B8-BABD-1A5F5D6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15167-BE2F-4971-A0B9-50D8D7A2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144C8-E121-4005-8797-6EF97FA5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E4F-D297-43CA-A52D-DB36E7D8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D3A4-C8CD-4BA8-BE5E-CF74664C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F77B-BEFB-4E71-8695-0AD42065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071E6-5989-4287-8425-1DCCC5D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1AC6-7E0A-4535-B7C1-F3C1E1DE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2E429-283F-4FCB-8AE8-0E739246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7CF55-6CBD-4C50-BA10-67C98772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EC2AA-E570-4C11-ACCD-0642776D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08CA-7C59-4749-93B2-6F599D0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949B-CB95-4CEC-B32B-C1472A46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BBC5-2228-4181-98D4-C5157E8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3DE-6CDC-48D9-BEA8-5226DEC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318EF-904E-485C-8EAC-27F3773A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C5A8-186C-4B95-BCE9-9C5C4766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49096-4618-45DC-9AB7-CAE8507A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E1E88-657B-45DC-91B2-DB08403E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C3FA4-D9DC-4497-BEF5-BA2F2FF9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5C49A-7B58-4AAA-A4D4-780482F2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A0845-1695-485F-AAF8-4A0E48B4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5FF18-11CE-4FC6-8108-29C843E2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89AC8-0A82-4BA6-8A3D-435BB668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D079-DDF1-4180-9B28-70AC1F8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56C-223C-41CD-A758-28F19C9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2D9C-D8A2-4EEA-8993-AB45ADF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52D51-E8E6-475E-8D2D-B5E2D4F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5910-6F75-4EC0-A090-9BAA506A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04077-43EE-4F9E-9184-50A6CD06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B9ED9-2948-42EA-9991-DC225BF5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4A41-3ADC-4D95-914D-01C7BA58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78EEC-C2B4-416C-81A2-F251AFE5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348EE-1F17-4269-AABA-5962C8B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D87E8-354E-4BA2-8C78-977D5CA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EB2B0-440F-45E6-9A03-4173DD20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047-83CC-4957-A4C7-EF50911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B9A92-684D-4D35-B865-FCE8C7F5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FE39F-5E16-4D9D-8341-A304CA3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07FDE-735E-497A-9529-D0574A87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9DFCF-1E21-495E-A24A-42B786B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E5161-F057-4B37-8C8B-10795A2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AB6FB-6202-458C-9878-1ED84652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E6C4F-E321-456A-912B-9CAF64E3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28CF2-7494-4147-A676-307867EE340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E1661-94E8-4ABE-B16B-055E7ED649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035D4-EE4B-4FDC-BEF8-23165DBFD3A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E29AD-2B94-43BA-B1CB-680D0C56C7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3F187-FF80-420C-A56A-5D84EA767D2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04CA0-1A60-49A9-888C-60D6CA8D0C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ACA4E-40EE-437E-9866-3A12B5A6C73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71419-E10D-4070-9489-C79C94D603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E4E39-989E-4470-AB25-BFCDC7CCADD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AF4A6-384A-4C2A-844F-3F6343F805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3EC44-B313-4B68-91DD-B550FAEC464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0A6E9-9794-4A8F-A7DC-BE7A8FB47D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1EE68-BF13-4CD9-909D-028D363079D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C801A-0910-47B9-882F-5310DE5A53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1CA61-4748-4F26-9E5D-E6949D5D680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8C1D2-D5CB-46AF-969B-87624291BF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ers/teacher/Desktop/Presentation%20Week/DataAnalysis.ppt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176480" y="231840"/>
            <a:ext cx="7785000" cy="2060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82600" y="325728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Toby Fisch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Integration Coach for 21st Century Skill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Upper Arlington City School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CreatingLearners.com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0" y="1573200"/>
            <a:ext cx="3983040" cy="34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2098440"/>
            <a:ext cx="8229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hat data do you look at and how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ow do your teachers look at data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hat data are we spending too much time on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hat data are we not looking at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w do we improve the data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le 2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1457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2131920" y="1417680"/>
            <a:ext cx="55753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of instructional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much time is spent teacher teaching vs student learn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ubric for learning scores (format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ily formative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 in better numb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C’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teaching/model te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it sim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data to set 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sure the data truly represents what we want students to know and be able to 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 the students in analyzing their own dat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2b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2b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2b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" dur="1" fill="hold"/>
                                  <p:tgtEl>
                                    <p:spTgt spid="3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2b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5:14:56Z</dcterms:created>
  <dc:creator>UA Schools</dc:creator>
  <dc:description/>
  <dc:language>en-US</dc:language>
  <cp:lastModifiedBy>UA Schools</cp:lastModifiedBy>
  <dcterms:modified xsi:type="dcterms:W3CDTF">2010-08-21T15:17:34Z</dcterms:modified>
  <cp:revision>4</cp:revision>
  <dc:subject/>
  <dc:title>Data to Inform Instruction</dc:title>
</cp:coreProperties>
</file>